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wmf" ContentType="image/x-wmf"/>
  <Override PartName="/ppt/media/image19.wmf" ContentType="image/x-wmf"/>
  <Override PartName="/ppt/media/image4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2.wmf" ContentType="image/x-wmf"/>
  <Override PartName="/ppt/media/image8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31.png" ContentType="image/png"/>
  <Override PartName="/ppt/media/image14.wmf" ContentType="image/x-wmf"/>
  <Override PartName="/ppt/media/image29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EAC5-49F5-41ED-B8E6-E2C6259C3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14E7-EA12-4D83-8808-CD61271D2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71E5-2357-4B77-ACAA-1E9CCBD2A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C76F-7876-438B-8971-E778216F6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4996-EE25-4D18-9B79-DC820DFBC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1F359D-03CD-4135-9034-2C018E0F1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5BF8-CF51-4370-840A-C69CB7120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7861-0C78-4B69-BB74-2CDBA54E4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B667-7E11-437E-950F-099D8154B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B386-E56F-414E-97CC-8A9F2F524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D99F-7C5B-43D8-A12D-60256BE26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E0DA-FBB4-4EA5-930D-65AF93425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ADAD0B-F0B6-4CAD-B4AB-0463AF6E5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7E54-2AF3-4C85-B09B-06C66FCDB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563B-ADBB-4D95-AA19-02FE99747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627D-4BF4-4653-BFBF-592D247BC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FFF1C-552F-448A-B31B-02C02AC06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FD743-19F6-432E-AB80-E735357610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8E8F5-7075-4EED-A4EC-07FDD39C2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32B32-53F0-4F44-916C-4E3C454777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6780A-14D8-4799-AFB4-A0736EF3B9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CA384-8B09-4A18-BEEC-B2877E570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CB23E-D7E0-4DF5-939D-520CA36113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EFC33-60F3-4DD4-A419-9781A13B5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C5FD8-1643-48E4-81B6-816D4764B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67A39-AE7F-4E01-BDC5-70FCC65D3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25AE0-2B7E-4119-9736-93E2D5CC17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EE0C0-CCC8-40B3-8F06-52008EE98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BA7F-1D57-4DBF-9EB2-D922AA2EF6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0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9E74-0E76-49A7-A566-C397D2559D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1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4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258"/>
          <p:cNvSpPr/>
          <p:nvPr/>
        </p:nvSpPr>
        <p:spPr>
          <a:xfrm>
            <a:off x="2590920" y="24400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нешняя оценка ка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33812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атель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6" descr="MCj03963300000[1]"/>
          <p:cNvPicPr/>
          <p:nvPr/>
        </p:nvPicPr>
        <p:blipFill>
          <a:blip r:embed="rId1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MCj03980190000[1]"/>
          <p:cNvPicPr/>
          <p:nvPr/>
        </p:nvPicPr>
        <p:blipFill>
          <a:blip r:embed="rId2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427A-7EC8-4B85-9EEF-F6F5678622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8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7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3027240" cy="295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MCj04291710000[1]"/>
          <p:cNvPicPr/>
          <p:nvPr/>
        </p:nvPicPr>
        <p:blipFill>
          <a:blip r:embed="rId4"/>
          <a:stretch/>
        </p:blipFill>
        <p:spPr>
          <a:xfrm>
            <a:off x="1371600" y="3298680"/>
            <a:ext cx="2362320" cy="21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304920" y="2057400"/>
            <a:ext cx="85341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уководство ИС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Э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43-1:199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Программы проверки компетентности – это межлабораторные сравнения, которые проводятся регулярно для оценки работы аналитических лабораторий и компетенции сотрудников»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8CD2-A7CA-4E47-B12D-0B21E8CCD1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0880" y="1865160"/>
            <a:ext cx="861084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A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рограмма, в которой набор проб периодически рассылается членам группы лабораторий для анализа и/или идентификации; результаты каждой лаборатории сравниваются с результатами других лабораторий группы и/или с заданными величинами, и отчет рассылается участвующим лаборатория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ECB1-F374-49FF-8585-34066904FD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F66A-2D04-4B28-B351-F1AB373580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33520" y="2057400"/>
            <a:ext cx="373356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648320" y="12952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33520" y="1219320"/>
            <a:ext cx="373356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едомство ПК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/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4648320" y="7621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6"/>
          <p:cNvGrpSpPr/>
          <p:nvPr/>
        </p:nvGrpSpPr>
        <p:grpSpPr>
          <a:xfrm>
            <a:off x="1112040" y="2247480"/>
            <a:ext cx="540360" cy="843120"/>
            <a:chOff x="1112040" y="2247480"/>
            <a:chExt cx="540360" cy="843120"/>
          </a:xfrm>
        </p:grpSpPr>
        <p:sp>
          <p:nvSpPr>
            <p:cNvPr id="261" name="AutoShape 7"/>
            <p:cNvSpPr/>
            <p:nvPr/>
          </p:nvSpPr>
          <p:spPr>
            <a:xfrm rot="6744600">
              <a:off x="1036080" y="2639880"/>
              <a:ext cx="60984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 rot="1359000">
              <a:off x="1393560" y="2286000"/>
              <a:ext cx="234720" cy="17136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9"/>
          <p:cNvSpPr/>
          <p:nvPr/>
        </p:nvSpPr>
        <p:spPr>
          <a:xfrm flipV="1">
            <a:off x="1600560" y="2184120"/>
            <a:ext cx="4418640" cy="5727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7467480" y="23623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6705720" y="1905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2"/>
          <p:cNvGrpSpPr/>
          <p:nvPr/>
        </p:nvGrpSpPr>
        <p:grpSpPr>
          <a:xfrm>
            <a:off x="5943600" y="3191040"/>
            <a:ext cx="609120" cy="838080"/>
            <a:chOff x="5943600" y="3191040"/>
            <a:chExt cx="609120" cy="838080"/>
          </a:xfrm>
        </p:grpSpPr>
        <p:sp>
          <p:nvSpPr>
            <p:cNvPr id="267" name="Rectangle 13"/>
            <p:cNvSpPr/>
            <p:nvPr/>
          </p:nvSpPr>
          <p:spPr>
            <a:xfrm>
              <a:off x="5943600" y="319104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6048720" y="33433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6059520" y="352764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6059520" y="372744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>
              <a:off x="6052320" y="388944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18"/>
          <p:cNvSpPr/>
          <p:nvPr/>
        </p:nvSpPr>
        <p:spPr>
          <a:xfrm flipH="1" flipV="1">
            <a:off x="1371240" y="3885840"/>
            <a:ext cx="441972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6400800" y="4191120"/>
            <a:ext cx="609120" cy="838080"/>
            <a:chOff x="6400800" y="4191120"/>
            <a:chExt cx="609120" cy="838080"/>
          </a:xfrm>
        </p:grpSpPr>
        <p:sp>
          <p:nvSpPr>
            <p:cNvPr id="274" name="Rectangle 20"/>
            <p:cNvSpPr/>
            <p:nvPr/>
          </p:nvSpPr>
          <p:spPr>
            <a:xfrm>
              <a:off x="6400800" y="41911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6505920" y="4343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>
              <a:off x="6516720" y="45277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3"/>
            <p:cNvSpPr/>
            <p:nvPr/>
          </p:nvSpPr>
          <p:spPr>
            <a:xfrm>
              <a:off x="6516720" y="47275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6509520" y="48895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25"/>
          <p:cNvSpPr/>
          <p:nvPr/>
        </p:nvSpPr>
        <p:spPr>
          <a:xfrm>
            <a:off x="1295280" y="4114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7"/>
          <p:cNvGrpSpPr/>
          <p:nvPr/>
        </p:nvGrpSpPr>
        <p:grpSpPr>
          <a:xfrm>
            <a:off x="685800" y="3657600"/>
            <a:ext cx="609120" cy="838080"/>
            <a:chOff x="685800" y="3657600"/>
            <a:chExt cx="609120" cy="838080"/>
          </a:xfrm>
        </p:grpSpPr>
        <p:sp>
          <p:nvSpPr>
            <p:cNvPr id="281" name="Rectangle 28"/>
            <p:cNvSpPr/>
            <p:nvPr/>
          </p:nvSpPr>
          <p:spPr>
            <a:xfrm>
              <a:off x="685800" y="365760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>
              <a:off x="790920" y="380988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>
              <a:off x="801720" y="399420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>
              <a:off x="801720" y="4194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>
              <a:off x="794520" y="435600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33"/>
          <p:cNvSpPr/>
          <p:nvPr/>
        </p:nvSpPr>
        <p:spPr>
          <a:xfrm>
            <a:off x="6094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54f3"/>
                </a:solidFill>
                <a:latin typeface="Verdana"/>
              </a:rPr>
              <a:t>Отчет о результатах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4"/>
          <p:cNvSpPr/>
          <p:nvPr/>
        </p:nvSpPr>
        <p:spPr>
          <a:xfrm>
            <a:off x="6858000" y="5029200"/>
            <a:ext cx="0" cy="44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6"/>
          <p:cNvGrpSpPr/>
          <p:nvPr/>
        </p:nvGrpSpPr>
        <p:grpSpPr>
          <a:xfrm>
            <a:off x="5913000" y="1866600"/>
            <a:ext cx="539640" cy="842400"/>
            <a:chOff x="5913000" y="1866600"/>
            <a:chExt cx="539640" cy="842400"/>
          </a:xfrm>
        </p:grpSpPr>
        <p:sp>
          <p:nvSpPr>
            <p:cNvPr id="289" name="AutoShape 37"/>
            <p:cNvSpPr/>
            <p:nvPr/>
          </p:nvSpPr>
          <p:spPr>
            <a:xfrm rot="6744600">
              <a:off x="5837040" y="22586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8"/>
            <p:cNvSpPr/>
            <p:nvPr/>
          </p:nvSpPr>
          <p:spPr>
            <a:xfrm rot="1359000">
              <a:off x="6193800" y="19051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39"/>
          <p:cNvSpPr/>
          <p:nvPr/>
        </p:nvSpPr>
        <p:spPr>
          <a:xfrm>
            <a:off x="6523200" y="3276720"/>
            <a:ext cx="2315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Отсылают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цесс П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1"/>
          <p:cNvSpPr/>
          <p:nvPr/>
        </p:nvSpPr>
        <p:spPr>
          <a:xfrm>
            <a:off x="1676520" y="275436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eba"/>
                </a:solidFill>
                <a:latin typeface="Verdana"/>
              </a:rPr>
              <a:t>ПК пробы рассылаются регуля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2"/>
          <p:cNvSpPr/>
          <p:nvPr/>
        </p:nvSpPr>
        <p:spPr>
          <a:xfrm>
            <a:off x="701028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3"/>
          <p:cNvGrpSpPr/>
          <p:nvPr/>
        </p:nvGrpSpPr>
        <p:grpSpPr>
          <a:xfrm>
            <a:off x="3352680" y="4572000"/>
            <a:ext cx="609480" cy="838080"/>
            <a:chOff x="3352680" y="4572000"/>
            <a:chExt cx="609480" cy="838080"/>
          </a:xfrm>
        </p:grpSpPr>
        <p:sp>
          <p:nvSpPr>
            <p:cNvPr id="296" name="Rectangle 44"/>
            <p:cNvSpPr/>
            <p:nvPr/>
          </p:nvSpPr>
          <p:spPr>
            <a:xfrm>
              <a:off x="3352680" y="4572000"/>
              <a:ext cx="60948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>
              <a:off x="3457800" y="472428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6"/>
            <p:cNvSpPr/>
            <p:nvPr/>
          </p:nvSpPr>
          <p:spPr>
            <a:xfrm>
              <a:off x="3468600" y="49086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7"/>
            <p:cNvSpPr/>
            <p:nvPr/>
          </p:nvSpPr>
          <p:spPr>
            <a:xfrm>
              <a:off x="3468600" y="51084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8"/>
            <p:cNvSpPr/>
            <p:nvPr/>
          </p:nvSpPr>
          <p:spPr>
            <a:xfrm>
              <a:off x="3461400" y="5270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49"/>
          <p:cNvSpPr/>
          <p:nvPr/>
        </p:nvSpPr>
        <p:spPr>
          <a:xfrm>
            <a:off x="1143000" y="4572000"/>
            <a:ext cx="6094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V="1">
            <a:off x="4093200" y="4800960"/>
            <a:ext cx="2217960" cy="2271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6"/>
          <p:cNvSpPr/>
          <p:nvPr/>
        </p:nvSpPr>
        <p:spPr>
          <a:xfrm>
            <a:off x="4876920" y="541008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ocument"/>
          <p:cNvSpPr/>
          <p:nvPr/>
        </p:nvSpPr>
        <p:spPr>
          <a:xfrm>
            <a:off x="4572000" y="4419720"/>
            <a:ext cx="1523880" cy="1828800"/>
          </a:xfrm>
          <a:custGeom>
            <a:avLst/>
            <a:gdLst>
              <a:gd name="textAreaLeft" fmla="*/ 68760 w 1523880"/>
              <a:gd name="textAreaRight" fmla="*/ 1455120 w 1523880"/>
              <a:gd name="textAreaTop" fmla="*/ 69120 h 1828800"/>
              <a:gd name="textAreaBottom" fmla="*/ 1391040 h 18288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477C-09FA-422F-A92C-0D4CB778EB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0"/>
          <p:cNvGrpSpPr/>
          <p:nvPr/>
        </p:nvGrpSpPr>
        <p:grpSpPr>
          <a:xfrm>
            <a:off x="838080" y="1219320"/>
            <a:ext cx="2438640" cy="1981080"/>
            <a:chOff x="838080" y="1219320"/>
            <a:chExt cx="2438640" cy="1981080"/>
          </a:xfrm>
        </p:grpSpPr>
        <p:pic>
          <p:nvPicPr>
            <p:cNvPr id="308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1219320"/>
              <a:ext cx="243540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9" name="Group 9"/>
            <p:cNvGrpSpPr/>
            <p:nvPr/>
          </p:nvGrpSpPr>
          <p:grpSpPr>
            <a:xfrm>
              <a:off x="838080" y="1219320"/>
              <a:ext cx="2438640" cy="1981080"/>
              <a:chOff x="838080" y="1219320"/>
              <a:chExt cx="2438640" cy="1981080"/>
            </a:xfrm>
          </p:grpSpPr>
          <p:sp>
            <p:nvSpPr>
              <p:cNvPr id="310" name="Line 5"/>
              <p:cNvSpPr/>
              <p:nvPr/>
            </p:nvSpPr>
            <p:spPr>
              <a:xfrm>
                <a:off x="83808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6"/>
              <p:cNvSpPr/>
              <p:nvPr/>
            </p:nvSpPr>
            <p:spPr>
              <a:xfrm>
                <a:off x="838080" y="1219320"/>
                <a:ext cx="243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327672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8"/>
              <p:cNvSpPr/>
              <p:nvPr/>
            </p:nvSpPr>
            <p:spPr>
              <a:xfrm>
                <a:off x="838080" y="2845080"/>
                <a:ext cx="2438640" cy="355320"/>
              </a:xfrm>
              <a:custGeom>
                <a:avLst/>
                <a:gdLst>
                  <a:gd name="textAreaLeft" fmla="*/ 0 w 2438640"/>
                  <a:gd name="textAreaRight" fmla="*/ 2439000 w 243864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Rectangle 22"/>
          <p:cNvSpPr/>
          <p:nvPr/>
        </p:nvSpPr>
        <p:spPr>
          <a:xfrm>
            <a:off x="380880" y="3328920"/>
            <a:ext cx="190512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380880" y="3328920"/>
            <a:ext cx="19051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2527200" y="3348000"/>
            <a:ext cx="189252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2527200" y="3348000"/>
            <a:ext cx="18925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26"/>
          <p:cNvCxnSpPr>
            <a:stCxn id="314" idx="2"/>
            <a:endCxn id="316" idx="2"/>
          </p:cNvCxnSpPr>
          <p:nvPr/>
        </p:nvCxnSpPr>
        <p:spPr>
          <a:xfrm flipH="1" rot="16200000">
            <a:off x="2392920" y="4001040"/>
            <a:ext cx="21600" cy="2140560"/>
          </a:xfrm>
          <a:prstGeom prst="curvedConnector5">
            <a:avLst>
              <a:gd name="adj1" fmla="val 1206779"/>
              <a:gd name="adj2" fmla="val 49991"/>
              <a:gd name="adj3" fmla="val 1206779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9" name="Text Box 30"/>
          <p:cNvSpPr/>
          <p:nvPr/>
        </p:nvSpPr>
        <p:spPr>
          <a:xfrm>
            <a:off x="533520" y="55627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щено обсуждение между лаборатор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380880" y="478800"/>
            <a:ext cx="60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К: Роль лабора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3"/>
          <p:cNvSpPr/>
          <p:nvPr/>
        </p:nvSpPr>
        <p:spPr>
          <a:xfrm>
            <a:off x="4648320" y="4724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84"/>
          <p:cNvGrpSpPr/>
          <p:nvPr/>
        </p:nvGrpSpPr>
        <p:grpSpPr>
          <a:xfrm>
            <a:off x="4800600" y="533520"/>
            <a:ext cx="4037760" cy="3139200"/>
            <a:chOff x="4800600" y="533520"/>
            <a:chExt cx="4037760" cy="3139200"/>
          </a:xfrm>
        </p:grpSpPr>
        <p:grpSp>
          <p:nvGrpSpPr>
            <p:cNvPr id="323" name="Group 85"/>
            <p:cNvGrpSpPr/>
            <p:nvPr/>
          </p:nvGrpSpPr>
          <p:grpSpPr>
            <a:xfrm>
              <a:off x="5313600" y="1246320"/>
              <a:ext cx="970560" cy="1455480"/>
              <a:chOff x="5313600" y="1246320"/>
              <a:chExt cx="970560" cy="1455480"/>
            </a:xfrm>
          </p:grpSpPr>
          <p:sp>
            <p:nvSpPr>
              <p:cNvPr id="324" name="AutoShape 86"/>
              <p:cNvSpPr/>
              <p:nvPr/>
            </p:nvSpPr>
            <p:spPr>
              <a:xfrm rot="6744600">
                <a:off x="519624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87"/>
              <p:cNvSpPr/>
              <p:nvPr/>
            </p:nvSpPr>
            <p:spPr>
              <a:xfrm rot="1359000">
                <a:off x="581508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88"/>
            <p:cNvGrpSpPr/>
            <p:nvPr/>
          </p:nvGrpSpPr>
          <p:grpSpPr>
            <a:xfrm>
              <a:off x="6706800" y="1246320"/>
              <a:ext cx="969480" cy="1455840"/>
              <a:chOff x="6706800" y="1246320"/>
              <a:chExt cx="969480" cy="1455840"/>
            </a:xfrm>
          </p:grpSpPr>
          <p:sp>
            <p:nvSpPr>
              <p:cNvPr id="327" name="AutoShape 89"/>
              <p:cNvSpPr/>
              <p:nvPr/>
            </p:nvSpPr>
            <p:spPr>
              <a:xfrm rot="6744600">
                <a:off x="658908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0"/>
              <p:cNvSpPr/>
              <p:nvPr/>
            </p:nvSpPr>
            <p:spPr>
              <a:xfrm rot="1359000">
                <a:off x="720720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Text Box 91"/>
            <p:cNvSpPr/>
            <p:nvPr/>
          </p:nvSpPr>
          <p:spPr>
            <a:xfrm>
              <a:off x="507888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92"/>
            <p:cNvSpPr/>
            <p:nvPr/>
          </p:nvSpPr>
          <p:spPr>
            <a:xfrm>
              <a:off x="689184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93"/>
            <p:cNvSpPr/>
            <p:nvPr/>
          </p:nvSpPr>
          <p:spPr>
            <a:xfrm rot="16200000">
              <a:off x="606636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4"/>
            <p:cNvSpPr/>
            <p:nvPr/>
          </p:nvSpPr>
          <p:spPr>
            <a:xfrm>
              <a:off x="480060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95"/>
          <p:cNvSpPr/>
          <p:nvPr/>
        </p:nvSpPr>
        <p:spPr>
          <a:xfrm>
            <a:off x="990720" y="1905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О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4"/>
          <p:cNvSpPr/>
          <p:nvPr/>
        </p:nvSpPr>
        <p:spPr>
          <a:xfrm>
            <a:off x="4800600" y="36576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аковый анализ теми же сотруд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6"/>
          <p:cNvSpPr/>
          <p:nvPr/>
        </p:nvSpPr>
        <p:spPr>
          <a:xfrm>
            <a:off x="632448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867280" y="533412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9"/>
          <p:cNvSpPr/>
          <p:nvPr/>
        </p:nvSpPr>
        <p:spPr>
          <a:xfrm>
            <a:off x="480060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К про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0"/>
          <p:cNvSpPr/>
          <p:nvPr/>
        </p:nvSpPr>
        <p:spPr>
          <a:xfrm>
            <a:off x="655308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ба от паци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2" descr="MCj04238220000[1]"/>
          <p:cNvPicPr/>
          <p:nvPr/>
        </p:nvPicPr>
        <p:blipFill>
          <a:blip r:embed="rId4"/>
          <a:stretch/>
        </p:blipFill>
        <p:spPr>
          <a:xfrm>
            <a:off x="2895480" y="3710160"/>
            <a:ext cx="1314720" cy="1349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3" descr="MCj04238320000[1]"/>
          <p:cNvPicPr/>
          <p:nvPr/>
        </p:nvPicPr>
        <p:blipFill>
          <a:blip r:embed="rId5"/>
          <a:stretch/>
        </p:blipFill>
        <p:spPr>
          <a:xfrm>
            <a:off x="609480" y="3710160"/>
            <a:ext cx="15242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9"/>
          <p:cNvGrpSpPr/>
          <p:nvPr/>
        </p:nvGrpSpPr>
        <p:grpSpPr>
          <a:xfrm>
            <a:off x="1979640" y="5100480"/>
            <a:ext cx="588960" cy="462240"/>
            <a:chOff x="1979640" y="5100480"/>
            <a:chExt cx="588960" cy="462240"/>
          </a:xfrm>
        </p:grpSpPr>
        <p:sp>
          <p:nvSpPr>
            <p:cNvPr id="342" name="Line 27"/>
            <p:cNvSpPr/>
            <p:nvPr/>
          </p:nvSpPr>
          <p:spPr>
            <a:xfrm>
              <a:off x="1979640" y="5100480"/>
              <a:ext cx="588960" cy="46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8"/>
            <p:cNvSpPr/>
            <p:nvPr/>
          </p:nvSpPr>
          <p:spPr>
            <a:xfrm flipH="1">
              <a:off x="2038320" y="5158080"/>
              <a:ext cx="529920" cy="404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304920" y="752400"/>
            <a:ext cx="8534160" cy="4826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нность информации, полученной в ПК, реализуется лишь тогда, когда она используется для улучшения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3" descr="MCj03962260000[1]"/>
          <p:cNvPicPr/>
          <p:nvPr/>
        </p:nvPicPr>
        <p:blipFill>
          <a:blip r:embed="rId1"/>
          <a:stretch/>
        </p:blipFill>
        <p:spPr>
          <a:xfrm>
            <a:off x="6477120" y="3048120"/>
            <a:ext cx="2133360" cy="2209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MCj04039790000[1]"/>
          <p:cNvPicPr/>
          <p:nvPr/>
        </p:nvPicPr>
        <p:blipFill>
          <a:blip r:embed="rId2"/>
          <a:stretch/>
        </p:blipFill>
        <p:spPr>
          <a:xfrm>
            <a:off x="3581280" y="3468600"/>
            <a:ext cx="3353040" cy="28558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6"/>
          <p:cNvSpPr/>
          <p:nvPr/>
        </p:nvSpPr>
        <p:spPr>
          <a:xfrm>
            <a:off x="4343400" y="4784760"/>
            <a:ext cx="168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6"/>
          <p:cNvSpPr/>
          <p:nvPr/>
        </p:nvSpPr>
        <p:spPr>
          <a:xfrm rot="19878000">
            <a:off x="6324480" y="4736880"/>
            <a:ext cx="1463760" cy="87300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218160 h 873000"/>
              <a:gd name="textAreaBottom" fmla="*/ 654840 h 87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E962-2A44-4BA6-8254-A8F6C693EB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62120" y="1447920"/>
            <a:ext cx="807696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езультаты ПК могут влиять факторы, не имеющие отношение к пробам от паци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не выявит все недостатки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может не выявить недостатки в процедурах до и посл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457200" y="4492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Ограничения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833D-BD7E-445C-8801-DC7D7C2545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3059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ругие методы ВОК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ый анализ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59BF-6980-4128-AE6C-C31DF71132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61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64" name="Rectangle 8"/>
          <p:cNvSpPr/>
          <p:nvPr/>
        </p:nvSpPr>
        <p:spPr>
          <a:xfrm>
            <a:off x="5334120" y="1752480"/>
            <a:ext cx="32004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5334120" y="1752480"/>
            <a:ext cx="32004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ференс-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ная 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8" name="Text Box 12"/>
          <p:cNvSpPr/>
          <p:nvPr/>
        </p:nvSpPr>
        <p:spPr>
          <a:xfrm>
            <a:off x="5334120" y="2971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70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73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76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79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82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83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86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87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90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93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96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ое исследо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референс-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на пробе высушенной крови или сыворот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пым метод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и значим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используют для оценки экспресс-тестов на ВИ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8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E500-2C2D-4001-9B27-C9C9E4C9D3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9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55627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4080"/>
            <a:ext cx="792504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бы отбираются методом случайной выбо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презентативная выбор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ая значи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ешение расхождений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ффективность обратной связ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для КУ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78F7-F763-42A2-BD85-1CFD7FD192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86000" cy="2036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7" descr="_crop"/>
          <p:cNvPicPr/>
          <p:nvPr/>
        </p:nvPicPr>
        <p:blipFill>
          <a:blip r:embed="rId2"/>
          <a:stretch/>
        </p:blipFill>
        <p:spPr>
          <a:xfrm>
            <a:off x="6553080" y="3200400"/>
            <a:ext cx="1924200" cy="300816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26"/>
          <p:cNvSpPr/>
          <p:nvPr/>
        </p:nvSpPr>
        <p:spPr>
          <a:xfrm>
            <a:off x="5257800" y="4876920"/>
            <a:ext cx="1219320" cy="533160"/>
          </a:xfrm>
          <a:prstGeom prst="leftRightArrow">
            <a:avLst>
              <a:gd name="adj1" fmla="val 50000"/>
              <a:gd name="adj2" fmla="val 4552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0A94-E2D6-433A-B678-964AC8E7128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казать о важности программы внешней оценки качества (ВОК) для повышения качества лабораторных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о крайней мере три метода ВОК, их преимущества и недоста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метить способ, как разобраться с неудовлетворительным результатом исследования пробы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8F81-B8DD-4162-BFAC-181103ECB7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431280"/>
            <a:ext cx="86108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равнение методов перепроверки мазков на кислотоустойчивые бактерии: в открытую и случайно отобранных вслепую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33520" y="1979640"/>
          <a:ext cx="8153280" cy="3659040"/>
        </p:xfrm>
        <a:graphic>
          <a:graphicData uri="http://schemas.openxmlformats.org/drawingml/2006/table">
            <a:tbl>
              <a:tblPr/>
              <a:tblGrid>
                <a:gridCol w="3429000"/>
                <a:gridCol w="2133360"/>
                <a:gridCol w="2590920"/>
              </a:tblGrid>
              <a:tr h="1311120">
                <a:tc>
                  <a:txBody>
                    <a:bodyPr lIns="90000" rIns="90000" anchor="ctr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енные характеристики анализ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открыт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учайные мазки, вслеп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58608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1986-99E4-42A7-9028-BE83DD41F9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8"/>
          <p:cNvSpPr/>
          <p:nvPr/>
        </p:nvSpPr>
        <p:spPr>
          <a:xfrm>
            <a:off x="762120" y="60040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на мест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762120" y="1195560"/>
            <a:ext cx="792468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лучения реальной картины лабораторной пр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казания помощи с проблемными участка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7" descr="MPj01788160000[1]"/>
          <p:cNvPicPr/>
          <p:nvPr/>
        </p:nvPicPr>
        <p:blipFill>
          <a:blip r:embed="rId1"/>
          <a:stretch/>
        </p:blipFill>
        <p:spPr>
          <a:xfrm>
            <a:off x="228600" y="2862360"/>
            <a:ext cx="4648320" cy="30812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8"/>
          <p:cNvSpPr/>
          <p:nvPr/>
        </p:nvSpPr>
        <p:spPr>
          <a:xfrm>
            <a:off x="228600" y="5695920"/>
            <a:ext cx="464832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ешняя группа, 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3" descr="PHIL_1282_lores"/>
          <p:cNvPicPr/>
          <p:nvPr/>
        </p:nvPicPr>
        <p:blipFill>
          <a:blip r:embed="rId2"/>
          <a:stretch/>
        </p:blipFill>
        <p:spPr>
          <a:xfrm>
            <a:off x="6629400" y="365760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4"/>
          <p:cNvSpPr/>
          <p:nvPr/>
        </p:nvSpPr>
        <p:spPr>
          <a:xfrm>
            <a:off x="6629400" y="5181480"/>
            <a:ext cx="220968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F9A4-8691-48F3-AA7A-78492145A7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1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4495680" y="3581280"/>
            <a:ext cx="2133720" cy="1524240"/>
          </a:xfrm>
          <a:prstGeom prst="rightArrow">
            <a:avLst>
              <a:gd name="adj1" fmla="val 50000"/>
              <a:gd name="adj2" fmla="val 37498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4495680" y="4038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ические визи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520560"/>
            <a:ext cx="8610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91000" indent="0">
              <a:lnSpc>
                <a:spcPct val="85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Микроскопия КУБ –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Сравнение работы до и посл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ценки на местах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6257-F725-4D9D-9A78-333A896A80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09680" y="1650960"/>
          <a:ext cx="8324640" cy="4140360"/>
        </p:xfrm>
        <a:graphic>
          <a:graphicData uri="http://schemas.openxmlformats.org/drawingml/2006/table">
            <a:tbl>
              <a:tblPr/>
              <a:tblGrid>
                <a:gridCol w="6019560"/>
                <a:gridCol w="1152720"/>
                <a:gridCol w="1152360"/>
              </a:tblGrid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ведра с пес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 проводится деконтаминация чашек для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дезинфицирующи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контейнера для биоопасных отходов (с крышк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лабораторных хал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рудники не моют ру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хватка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ый сбор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ое заполнение регистрационного жур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ая маркировка стекол или контейн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Text Box 51"/>
          <p:cNvSpPr/>
          <p:nvPr/>
        </p:nvSpPr>
        <p:spPr>
          <a:xfrm>
            <a:off x="533520" y="5683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2"/>
          <p:cNvSpPr/>
          <p:nvPr/>
        </p:nvSpPr>
        <p:spPr>
          <a:xfrm>
            <a:off x="6487200" y="129528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3"/>
          <p:cNvSpPr/>
          <p:nvPr/>
        </p:nvSpPr>
        <p:spPr>
          <a:xfrm>
            <a:off x="7467480" y="1295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ЛЕ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а компетентности (ПК) и перепроверка (ПП)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80880" y="1754280"/>
          <a:ext cx="8305920" cy="3875040"/>
        </p:xfrm>
        <a:graphic>
          <a:graphicData uri="http://schemas.openxmlformats.org/drawingml/2006/table">
            <a:tbl>
              <a:tblPr/>
              <a:tblGrid>
                <a:gridCol w="3886200"/>
                <a:gridCol w="2133720"/>
                <a:gridCol w="228600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арактерис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жлабораторное срав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скусственные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стоящ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буемые время и ресур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Проверка реаг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Мног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Нескольк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239E-F461-44F7-9EC3-EC4CAA9BF4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457200" y="64004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160" y="58428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Участие в ВОК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61760"/>
            <a:ext cx="441972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комендуется для всех лаборато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вляется требованием ИС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Slide Number Placeholder 1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2757-F1F6-4EBC-AF40-01029C3F69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1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49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0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51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custGeom>
                <a:avLst/>
                <a:gdLst>
                  <a:gd name="textAreaLeft" fmla="*/ 0 w 3571920"/>
                  <a:gd name="textAreaRight" fmla="*/ 3572280 w 357192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Организация процесса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762760" cy="40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ие и анализ проб В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акое же обращение с пробами ВОК, как и с пробами пациент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слеживание и поддержа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ние несоответ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я корректирующих дей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овещение о результат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228600" y="5425920"/>
            <a:ext cx="2514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5"/>
          <p:cNvSpPr/>
          <p:nvPr/>
        </p:nvSpPr>
        <p:spPr>
          <a:xfrm>
            <a:off x="3666960" y="5334120"/>
            <a:ext cx="5324760" cy="990360"/>
          </a:xfrm>
          <a:custGeom>
            <a:avLst/>
            <a:gdLst>
              <a:gd name="textAreaLeft" fmla="*/ 1330920 w 5324760"/>
              <a:gd name="textAreaRight" fmla="*/ 3993840 w 532476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Корректи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04C4-5FBD-4A83-A931-AF47457B09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6"/>
          <p:cNvSpPr/>
          <p:nvPr/>
        </p:nvSpPr>
        <p:spPr>
          <a:xfrm rot="16200000">
            <a:off x="2857320" y="53715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CDDF-0928-4AEE-A2A9-262F13AA92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 rot="10800000">
            <a:off x="3200400" y="4723920"/>
            <a:ext cx="2666880" cy="838440"/>
          </a:xfrm>
          <a:custGeom>
            <a:avLst/>
            <a:gdLst>
              <a:gd name="textAreaLeft" fmla="*/ 416520 w 2666880"/>
              <a:gd name="textAreaRight" fmla="*/ 2333520 w 266688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 rot="5400000">
            <a:off x="693360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А 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6095880" y="1371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щение с про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до ис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6"/>
          <p:cNvSpPr/>
          <p:nvPr/>
        </p:nvSpPr>
        <p:spPr>
          <a:xfrm>
            <a:off x="838080" y="4952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ТОР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7"/>
          <p:cNvSpPr/>
          <p:nvPr/>
        </p:nvSpPr>
        <p:spPr>
          <a:xfrm flipH="1" rot="10800000">
            <a:off x="3351600" y="1143000"/>
            <a:ext cx="2667240" cy="838080"/>
          </a:xfrm>
          <a:custGeom>
            <a:avLst/>
            <a:gdLst>
              <a:gd name="textAreaLeft" fmla="*/ 416160 w 2667240"/>
              <a:gd name="textAreaRight" fmla="*/ 233352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блемы, выявленные 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443E-BF80-49FE-90F4-66BD196A9F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"/>
          <p:cNvSpPr/>
          <p:nvPr/>
        </p:nvSpPr>
        <p:spPr>
          <a:xfrm>
            <a:off x="533520" y="1676520"/>
            <a:ext cx="190476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3"/>
          <p:cNvSpPr/>
          <p:nvPr/>
        </p:nvSpPr>
        <p:spPr>
          <a:xfrm rot="5400000">
            <a:off x="1028160" y="2857320"/>
            <a:ext cx="914400" cy="129564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80880" y="4191120"/>
            <a:ext cx="22860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недост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 rot="20101800">
            <a:off x="2703240" y="3366720"/>
            <a:ext cx="2369880" cy="1295280"/>
          </a:xfrm>
          <a:custGeom>
            <a:avLst/>
            <a:gdLst>
              <a:gd name="textAreaLeft" fmla="*/ 370080 w 2369880"/>
              <a:gd name="textAreaRight" fmla="*/ 2073960 w 23698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4876920" y="1371600"/>
            <a:ext cx="3962160" cy="3581280"/>
          </a:xfrm>
          <a:custGeom>
            <a:avLst/>
            <a:gdLst>
              <a:gd name="textAreaLeft" fmla="*/ 904320 w 3962160"/>
              <a:gd name="textAreaRight" fmla="*/ 3057840 w 3962160"/>
              <a:gd name="textAreaTop" fmla="*/ 817560 h 3581280"/>
              <a:gd name="textAreaBottom" fmla="*/ 276372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52280" y="3808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 должна приводи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4648320" y="2451240"/>
            <a:ext cx="445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1" lang="ru-RU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это система для объективной проверки работы лаборатории, проводимой внешним учреждением или орган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лаборатории должны участвовать 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несколько методо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щение с пробами ВОК должно быть таким же, как и с пробами от пациентов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6298-3FA8-4ABC-BEBD-BE81C5326D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554040"/>
            <a:ext cx="838224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ВОК расходуются ценные ресурсы, извлеките пользу из своего учас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10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не должна быть связана с санкция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следует рассматривать как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поможет определить направления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является важным элементом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A69D-0CED-43AA-90EA-C3D537FA0A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9BED-E54A-4FAA-AB5A-37B7957251B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овый руководите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нализирова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езультаты предыдущи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К и обнаружил плох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азатели окрашивания по Грам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«Как должна лаборатория расследовать эту проблему?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5" descr="bd07156_"/>
          <p:cNvPicPr/>
          <p:nvPr/>
        </p:nvPicPr>
        <p:blipFill>
          <a:blip r:embed="rId1"/>
          <a:stretch/>
        </p:blipFill>
        <p:spPr>
          <a:xfrm>
            <a:off x="6019920" y="5335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4DDC-C37A-46CE-B24E-941FA6D703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9538-BC67-4201-88F1-76DC0C5A69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96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97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12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13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14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6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19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22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23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28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33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37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40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46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49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52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3C9F-404A-49FB-9DD9-0D268B99D8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52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7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8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9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74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77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8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83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8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92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95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01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04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07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нешняя оценка качества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истема для объективной проверки работы лаборатории, проводимой внешним учреждением или орган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8E76-B904-428E-8057-B059E129D2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Content Placeholder 1025"/>
          <p:cNvGrpSpPr/>
          <p:nvPr/>
        </p:nvGrpSpPr>
        <p:grpSpPr>
          <a:xfrm>
            <a:off x="228600" y="990720"/>
            <a:ext cx="8686080" cy="3885120"/>
            <a:chOff x="228600" y="990720"/>
            <a:chExt cx="8686080" cy="3885120"/>
          </a:xfrm>
        </p:grpSpPr>
        <p:cxnSp>
          <p:nvCxnSpPr>
            <p:cNvPr id="214" name="_s1028"/>
            <p:cNvCxnSpPr>
              <a:stCxn id="215" idx="0"/>
              <a:endCxn id="216" idx="2"/>
            </p:cNvCxnSpPr>
            <p:nvPr/>
          </p:nvCxnSpPr>
          <p:spPr>
            <a:xfrm flipV="1" rot="16200000">
              <a:off x="5782680" y="1332720"/>
              <a:ext cx="777600" cy="320076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029"/>
            <p:cNvCxnSpPr>
              <a:endCxn id="216" idx="2"/>
            </p:cNvCxnSpPr>
            <p:nvPr/>
          </p:nvCxnSpPr>
          <p:spPr>
            <a:xfrm flipH="1" flipV="1">
              <a:off x="4570920" y="2544480"/>
              <a:ext cx="1080" cy="777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6" idx="2"/>
            </p:cNvCxnSpPr>
            <p:nvPr/>
          </p:nvCxnSpPr>
          <p:spPr>
            <a:xfrm flipH="1" flipV="1" rot="5400000">
              <a:off x="2770560" y="1521360"/>
              <a:ext cx="777600" cy="282348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031"/>
            <p:cNvSpPr/>
            <p:nvPr/>
          </p:nvSpPr>
          <p:spPr>
            <a:xfrm>
              <a:off x="3268800" y="990720"/>
              <a:ext cx="260568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МЕТОД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В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2"/>
            <p:cNvSpPr/>
            <p:nvPr/>
          </p:nvSpPr>
          <p:spPr>
            <a:xfrm>
              <a:off x="228600" y="3321720"/>
              <a:ext cx="304020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роверка компетент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33"/>
            <p:cNvSpPr/>
            <p:nvPr/>
          </p:nvSpPr>
          <p:spPr>
            <a:xfrm>
              <a:off x="3419280" y="3321720"/>
              <a:ext cx="290448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ере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овторное исслед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034"/>
            <p:cNvSpPr/>
            <p:nvPr/>
          </p:nvSpPr>
          <p:spPr>
            <a:xfrm>
              <a:off x="6628320" y="3321720"/>
              <a:ext cx="228636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Оценка на мест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8D9D-6E18-4F63-8000-A3561ECB63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яя оценка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)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35120" y="1454040"/>
            <a:ext cx="77994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ение разных лаборат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ннее предупреждение о систематических ошиб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ективные данные о качестве анали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частки, нуждающиеся в улучш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ребности в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319B-1DC5-455F-9AA3-D7066F1085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MCBS01691_0000[1]"/>
          <p:cNvPicPr/>
          <p:nvPr/>
        </p:nvPicPr>
        <p:blipFill>
          <a:blip r:embed="rId1"/>
          <a:stretch/>
        </p:blipFill>
        <p:spPr>
          <a:xfrm>
            <a:off x="72388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имущества 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14400" y="163656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дачи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572000" y="13716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Задачи охраны здоровья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staff_group_romania_wnv-cdc"/>
          <p:cNvPicPr/>
          <p:nvPr/>
        </p:nvPicPr>
        <p:blipFill>
          <a:blip r:embed="rId1"/>
          <a:stretch/>
        </p:blipFill>
        <p:spPr>
          <a:xfrm>
            <a:off x="533520" y="3295800"/>
            <a:ext cx="4114800" cy="2952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MPj03826840000[1]"/>
          <p:cNvPicPr/>
          <p:nvPr/>
        </p:nvPicPr>
        <p:blipFill>
          <a:blip r:embed="rId2"/>
          <a:stretch/>
        </p:blipFill>
        <p:spPr>
          <a:xfrm>
            <a:off x="4648320" y="3295800"/>
            <a:ext cx="4114800" cy="293832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1A70-590B-4615-B041-40C057E95D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2049" descr=""/>
          <p:cNvPicPr/>
          <p:nvPr/>
        </p:nvPicPr>
        <p:blipFill>
          <a:blip r:embed="rId1"/>
          <a:stretch/>
        </p:blipFill>
        <p:spPr>
          <a:xfrm>
            <a:off x="530280" y="633240"/>
            <a:ext cx="8004240" cy="56214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C918-2E2D-4A30-83CB-976DDB6F7D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3:15:03Z</dcterms:modified>
  <cp:revision>417</cp:revision>
  <dc:subject/>
  <dc:title>Slide 1</dc:title>
</cp:coreProperties>
</file>